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A5F-2BAD-4ABD-93FB-44FCC842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F43-FD32-47C7-90B0-6F324C2A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796-F3F2-47EB-BDEB-58494060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A7A-AA78-41B0-B030-F8655FF0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3D5-C88E-42A8-852C-18DC7F4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B30-A7D6-4942-BD8C-A36A66A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297-E36C-43AE-8B0C-7361A56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7FE-F1FB-4BFA-AE2A-F408DEF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E67-30FA-433C-9CC8-AF4D8199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ADD-FACF-4F24-8245-33C7F6F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A03-574B-491B-B971-C2085DE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39B-D1CD-479B-B1C3-83FD8F2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68AD-81E4-4330-A131-36CEA5C3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 g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: stare at happi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glar.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320400">
            <a:off x="6009480" y="4406400"/>
            <a:ext cx="692280" cy="4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excite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Story.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people who settle or make a new home in a new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new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old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se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set.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00680" y="2933640"/>
            <a:ext cx="3303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unexplored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unknown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fron.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the first settlers in a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pi.on.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29120" y="533520"/>
            <a:ext cx="42148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a region or erea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1-20T23:01:25Z</dcterms:modified>
  <cp:revision>4</cp:revision>
  <dc:subject/>
  <dc:title>PowerPoint Presentation</dc:title>
</cp:coreProperties>
</file>